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614-A49F-4740-AE81-4E5228A8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C1A-9094-430D-863D-BD1746D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821-56B8-4D18-90AA-0425C1C1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07C-8866-46FA-8C70-FE69D8AC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CB3-C08A-44DD-860A-8780C16E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50C-AEB4-4D4C-BDAA-68F7046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B5A-31F5-4DAD-8627-0F110C55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D99-3939-4BD9-B919-0E33675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FBE-3A22-4050-9A11-9435EE9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F70-D873-4EB3-9402-1E2080C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003-86B2-456F-830F-8D7E109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D6E-3185-4B4F-BF4A-E4F263A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EF4-898A-43F6-89D9-F9A178B2C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Two-way frequency tables and segmented bar char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wo-way Frequency Tab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-Way Frequency tables are used to show the relationship between two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 categorical variable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ndependent variab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placed in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olumn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of the tabl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the independent variable is placed in the columns of the table, the percentages should be calculated in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D, Q. 2, 3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gmented bar char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data in a two-way frequency table can also be represented graphically in a segmented bar char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columns in a segmented bar chart match the columns in a two-way frequency table. Each segment corresponds to each cell in the t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Q. 7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D, 8 and present the table in Q. 8 as a segmented bar char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5:02:30Z</dcterms:created>
  <dc:creator>08843474</dc:creator>
  <dc:description/>
  <dc:language>en-US</dc:language>
  <cp:lastModifiedBy>08843474</cp:lastModifiedBy>
  <dcterms:modified xsi:type="dcterms:W3CDTF">2011-02-16T22:33:17Z</dcterms:modified>
  <cp:revision>7</cp:revision>
  <dc:subject/>
  <dc:title>Bivariate Data</dc:title>
</cp:coreProperties>
</file>